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201-0314-4CDD-9F99-9C6A7894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56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123-BCD4-44EF-93FA-C9BD1172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DE7-6C3A-4AC2-8DE7-15E6D52D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BBA-E398-4C56-A778-006BD3CE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BCC-F5F3-4551-B66A-3EF0F567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4DE6-9BD6-49D7-8AE1-6BA66CFD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179D-904B-4906-94B7-69F9DDD5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90B3-D8D3-4F49-9DB2-5F9AD237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FD5C-C6F6-41E8-86A6-171508A7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3686-EFEE-4E9E-B0BA-0F949F58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5E31-A346-4E67-A44A-7AE33A4C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CBD-B9DB-4F70-B611-98C3417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B06A-85EE-4F6F-8B29-8115F6B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4FC1-4D44-4F84-9B69-F1135916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56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0A1E-73BF-4279-BB7B-B22BB6AD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ED35-709D-4992-85C6-4494DA77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4F15-E418-40E8-A207-64AC5F0E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6E5-54EB-4012-84B6-CB12C27E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62E-AF06-418E-AE9C-55F9D213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FA5-4664-4879-A5FF-8766445D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332-B97B-4EB4-8D11-3AA05452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375-FB2F-4F42-9F6D-506F42C2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E14-4A54-49EC-AE03-316A7847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881-C701-47EC-981F-F03F47B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1d4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DFD8-482F-4E0A-88BB-5DA42C5A18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fdbb31"/>
          </a:solidFill>
          <a:ln w="9360">
            <a:solidFill>
              <a:srgbClr val="fdb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93080" y="185760"/>
            <a:ext cx="18637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57578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31DD-1ECE-4456-8A02-99FCF645B6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d4d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1d4d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71640" y="441000"/>
            <a:ext cx="27730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5971"/>
                </a:solidFill>
                <a:latin typeface="Arial"/>
              </a:rPr>
              <a:t>MOB1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2920" y="1736640"/>
            <a:ext cx="49690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5971"/>
                </a:solidFill>
                <a:latin typeface="Arial"/>
              </a:rPr>
              <a:t>Your Local Link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5971"/>
                </a:solidFill>
                <a:latin typeface="Arial"/>
              </a:rPr>
              <a:t>to Rapid Rescu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448000" y="512640"/>
            <a:ext cx="2235240" cy="785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87280" y="404640"/>
            <a:ext cx="177012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88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MOB1 the world’s smallest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SC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0% (typ) smaller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utomatic Activation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imple Lifejacket Integration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74560" y="4187880"/>
            <a:ext cx="835200" cy="64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4560" y="2602080"/>
            <a:ext cx="827280" cy="642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76360" y="343368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76360" y="4976640"/>
            <a:ext cx="831600" cy="642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74560" y="5697360"/>
            <a:ext cx="831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88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cueME MOB1 the world’s smallest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4+ hours operational life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 year battery replacement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 year warranty*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4560" y="2602080"/>
            <a:ext cx="831960" cy="642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4560" y="3432240"/>
            <a:ext cx="831960" cy="6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74560" y="4152960"/>
            <a:ext cx="831960" cy="642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warranty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7280" y="1600200"/>
            <a:ext cx="853272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s AIS &amp; DSC alerts direct to your vessel with GPS positi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7280" y="3105000"/>
            <a:ext cx="856944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MOB Comparison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6453360"/>
            <a:ext cx="55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1d4db"/>
                </a:solidFill>
                <a:latin typeface="Arial"/>
              </a:rPr>
              <a:t>* DSC functionality is subject to regulations of coun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449360"/>
          <a:ext cx="8174160" cy="4881600"/>
        </p:xfrm>
        <a:graphic>
          <a:graphicData uri="http://schemas.openxmlformats.org/drawingml/2006/table">
            <a:tbl>
              <a:tblPr/>
              <a:tblGrid>
                <a:gridCol w="909720"/>
                <a:gridCol w="906480"/>
                <a:gridCol w="907920"/>
                <a:gridCol w="984240"/>
                <a:gridCol w="831960"/>
                <a:gridCol w="909360"/>
                <a:gridCol w="908280"/>
                <a:gridCol w="906480"/>
                <a:gridCol w="909720"/>
              </a:tblGrid>
              <a:tr h="99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rescueME MO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McMurdo S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McMurdo S20 / Kannad R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sMRT AU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sMRT V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Easy-RESC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Easy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ACR AIS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299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279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279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289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activation on L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Life (hrs/-20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4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(-10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ons (m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34x38x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99x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4x67x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80x95x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37x51x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5x68x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68x48x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9x52x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27280" y="1557360"/>
            <a:ext cx="244440" cy="863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692360" y="382428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692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27280" y="432900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92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692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92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4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2728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400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27280" y="4329000"/>
            <a:ext cx="177840" cy="1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4000" y="429264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447480" cy="830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600360" y="1557360"/>
            <a:ext cx="285840" cy="755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2664000" y="1557360"/>
            <a:ext cx="20628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099280" y="6489720"/>
            <a:ext cx="7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5-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19272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56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292720" y="378936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56360" y="429264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427640" y="429264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56360" y="4292640"/>
            <a:ext cx="250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29272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427640" y="429264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256360" y="4292640"/>
            <a:ext cx="250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427640" y="429264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92720" y="378936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256360" y="4292640"/>
            <a:ext cx="250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427640" y="429264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29272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156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29272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362560" y="1557360"/>
            <a:ext cx="322200" cy="86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4319640" y="1628640"/>
            <a:ext cx="584280" cy="628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7105680" y="1484280"/>
            <a:ext cx="387360" cy="936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7128000" y="3392640"/>
            <a:ext cx="250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16436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164360" y="429264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064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10108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064360" y="429264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8028000" y="1592280"/>
            <a:ext cx="324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72828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bb31"/>
                </a:solidFill>
                <a:latin typeface="Arial"/>
              </a:rPr>
              <a:t>rescueME MOB1</a:t>
            </a:r>
            <a:endParaRPr b="0" lang="en-US" sz="4800" spc="-1" strike="noStrike">
              <a:solidFill>
                <a:srgbClr val="c1d4db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The World’s smalles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n Overboard Locating Device</a:t>
            </a:r>
            <a:endParaRPr b="0" lang="en-US" sz="4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cueME MOB1 the world’s smalles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4560" y="2602080"/>
            <a:ext cx="82728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77708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Identification System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s the position of the MOB on your AIS connected plotter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       symbol*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istance and Bearing to person*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66 channel GP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‘MOB ACTIVE’ message*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1324080" cy="10303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600360" y="3321000"/>
            <a:ext cx="503280" cy="504720"/>
            <a:chOff x="3600360" y="3321000"/>
            <a:chExt cx="503280" cy="504720"/>
          </a:xfrm>
        </p:grpSpPr>
        <p:sp>
          <p:nvSpPr>
            <p:cNvPr id="96" name=""/>
            <p:cNvSpPr/>
            <p:nvPr/>
          </p:nvSpPr>
          <p:spPr>
            <a:xfrm>
              <a:off x="3600360" y="3321000"/>
              <a:ext cx="503280" cy="504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672360" y="3401280"/>
              <a:ext cx="359280" cy="35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72360" y="3391560"/>
              <a:ext cx="359280" cy="35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compatible plo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cueME MOB1 the world’s smalles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C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4560" y="2602080"/>
            <a:ext cx="827280" cy="642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6360" y="343368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C functionality is subject to regulations of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elective Calling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s alarm on ship’s compatible DSC VHF radio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ts position immediately GPS fix is obtained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onally a manually activated All Ships Distress Alert can be transmitted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0">
              <a:spcBef>
                <a:spcPts val="601"/>
              </a:spcBef>
              <a:buNone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1324080" cy="1028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C functionality is subject to regulations of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MOB1 the world’s smallest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SC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0% (typ) smaller</a:t>
            </a:r>
            <a:r>
              <a:rPr b="0" lang="en-GB" sz="36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4560" y="4187880"/>
            <a:ext cx="835200" cy="64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74560" y="2602080"/>
            <a:ext cx="827280" cy="642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76360" y="3433680"/>
            <a:ext cx="8269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0% (typ) smaller by volume than the competitor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Lighter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orld’s most compact MOB allows for easy packing in a lifejacket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2" marL="222264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the smallest 150N types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53960"/>
            <a:ext cx="13320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MOB1 the world’s smallest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SC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0% (typ) smaller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utomatic Activation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74560" y="4187880"/>
            <a:ext cx="835200" cy="64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4560" y="2602080"/>
            <a:ext cx="827280" cy="642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76360" y="343368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74560" y="4946760"/>
            <a:ext cx="831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550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Activati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clip on oral inflation tube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y wrap supplied tape around lifejacket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mounted on left or right hand side inflation tubes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cally activates when lifejacket inflates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13320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05560" y="1700280"/>
            <a:ext cx="2638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2:16:40Z</dcterms:created>
  <dc:creator>David Sheekey</dc:creator>
  <dc:description/>
  <dc:language>en-US</dc:language>
  <cp:lastModifiedBy>David</cp:lastModifiedBy>
  <dcterms:modified xsi:type="dcterms:W3CDTF">2015-03-02T11:55:12Z</dcterms:modified>
  <cp:revision>181</cp:revision>
  <dc:subject/>
  <dc:title>rescueME PLB1</dc:title>
</cp:coreProperties>
</file>